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3.jpeg" ContentType="image/jpeg"/>
  <Override PartName="/ppt/media/image23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34.png" ContentType="image/png"/>
  <Override PartName="/ppt/media/image12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24.png" ContentType="image/png"/>
  <Override PartName="/ppt/media/image11.jpeg" ContentType="image/jpeg"/>
  <Override PartName="/ppt/media/image8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233D-3404-40D4-91A8-8DF81EF6D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book has grown from 70 to 200 million user in the past year (70 percent outside the U.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B40B-782D-41DE-974C-7D01E4403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strma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F367-6400-469C-A10D-4757E8941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79A-38ED-4AC0-AD85-857C540F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C49-D569-444D-9E96-15731EB8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FE5-FFB8-440C-AC9F-5D2484BD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448-3B0C-457D-AC0E-993102CC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F180-D1FF-4AB9-98BD-ED540910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859F-B9DD-432C-9066-E658FFD5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4AEE-41EE-46ED-8C38-ACA7247B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A4BF-71D4-473A-BFB7-3D3BD0FB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5DFA-8446-413D-B046-87700E78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7BF9-0E63-47B8-9832-2108127B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838E-90AD-4665-A465-4BB572BF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2F0-91FD-4717-AE81-6328C618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5C75-8502-4E56-8C57-257F7E9F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9DE7-ECC4-45F2-B92F-ABC2F470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F11C-FB18-46CF-9811-ED582A56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6BBD-8D44-4C0C-906B-613D4EE1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2BEA-1B7D-4663-B6EC-18E1829E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6051F-EEF9-44FF-9AB2-008F5570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8AF4-EB6F-4B65-953F-6D4136ED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8CCA-D3CB-4BAA-A904-B48E695B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5D825-D27D-4DCC-BC3C-B57FEF89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0F13-4812-4745-928D-00DE878C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12E-EFA1-4073-A0C4-DF5B1D4D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8027-0699-42F9-953C-FBD73AFF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41EB-42AA-4372-9573-3A5759F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034E-9013-4971-B387-7EE884C6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4E762-7122-40B4-9BED-5D58766E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74B6D-3200-4477-BEDB-028CE848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3D6D-6BA5-429F-8096-EC59FC9C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3DBC-CDD5-408B-A744-FE107DD5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A16F2-AE94-4085-B785-8D66E184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8676C-61F6-404A-9239-A395CF85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19DF5-8DAE-4AFB-9DBF-88C5105C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8DA-D679-4D2B-8D5F-B2971B34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D0CC-F34E-4010-AEE2-D699A40A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3B403-69A6-45A0-861F-7C9C7A7D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28337-D18C-43AF-9FDC-AD284E08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6DC83-172B-4D8D-8A62-A8573FBF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B4A2-AD65-4F30-B957-77C0441C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2E84C-0E73-486C-8247-986A9955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A5D2D-C2BD-4DC7-BB7D-77B7CD38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A26D-1040-4C8C-A4E0-AEE2D82F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11EA7-EBE5-4198-BF53-423DAEE0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CE366-BA45-4014-B71C-BAF7B213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5C4-06E1-4CA7-8533-C1B2CC8F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02941-D3AC-408C-B7F1-D443684D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7A1B7-4113-46F7-AF67-5CFC4D45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68D04-28D2-402C-A098-09B7249D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5D2C1-8208-42FE-8D91-37B133ED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9A318-8A6A-4063-9782-6005FE03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94CF4-6030-4AEC-A602-C0BC41DE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69E75-4271-4C7E-9D39-D7F15A45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FA398-C84A-4E77-8802-90F50AF6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C5467-E655-4791-824E-73BFA4E1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A0B51-6963-4415-9A0F-6FE0B3CD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C3C-1964-49D4-83EA-F52CE3BD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AF276-B545-4966-821E-03E0E651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A9DD6-E2B7-499E-9B03-53C92D21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6C6A1-7F77-4E7B-A030-AD02ACB6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8E3F5-8209-4255-B429-FED3C805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98C39-E494-4CEA-9998-19C692D6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A2970-DE45-4AA5-83D6-60C54F31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262EB-3272-4984-8474-E894A7CF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3C357-F104-473D-A37E-FAF97937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77D36-70AF-47A0-815A-D05E8CDC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0870B-D2F6-4ED5-8801-DB277D74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491-5D1F-4214-8950-1332E092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8718E-CF48-4CAA-83DB-F8FF9B86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577C0-D096-43CA-AA46-F968906C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23468-9AB8-41D0-AE20-AE2F0753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B5C-6075-4FA4-ABA9-026955CC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890-1036-4DEF-B203-B2020CAF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865C-E3D9-4341-9B10-CFF5226F4C30}" type="slidenum"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Straight Connector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Straight Connector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Straight Connector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Straight Connector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D13C-A3DD-48AF-BD30-E8E8BCFFC90D}" type="slidenum"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Straight Connector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Straight Connector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Straight Connector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2AC3-2A44-429D-A2BA-E7E73DB84545}" type="slidenum"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Straight Connector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Straight Connector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Straight Connector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Straight Connector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ED45-69C9-4ADA-A59A-619B89523375}" type="slidenum"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Straight Connector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Straight Connector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Straight Connector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Straight Connector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9330-8E94-43AE-B0BC-DA0226DAE2C2}" type="slidenum"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Straight Connector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Straight Connector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Straight Connector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Straight Connector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A156-5A70-4FB6-8D61-CCF7C13C8F94}" type="slidenum">
              <a:rPr b="0" lang="en-US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classblogmeister.com/blog.php?blogger_id=1337" TargetMode="External"/><Relationship Id="rId3" Type="http://schemas.openxmlformats.org/officeDocument/2006/relationships/hyperlink" Target="http://www.mrsgoerend.com/" TargetMode="External"/><Relationship Id="rId4" Type="http://schemas.openxmlformats.org/officeDocument/2006/relationships/hyperlink" Target="http://classblogmeister.com/blog.php?blogger_id=51141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clustrmaps.com/" TargetMode="External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flickr.com/groups/classrmdisplays/" TargetMode="External"/><Relationship Id="rId3" Type="http://schemas.openxmlformats.org/officeDocument/2006/relationships/hyperlink" Target="http://www.schooltube.com/video/122c68aae32a4c97b68e/Our-Spider-Reports" TargetMode="External"/><Relationship Id="rId4" Type="http://schemas.openxmlformats.org/officeDocument/2006/relationships/hyperlink" Target="http://www.youtube.com/" TargetMode="External"/><Relationship Id="rId5" Type="http://schemas.openxmlformats.org/officeDocument/2006/relationships/hyperlink" Target="http://www.teachertube.com/" TargetMode="External"/><Relationship Id="rId6" Type="http://schemas.openxmlformats.org/officeDocument/2006/relationships/hyperlink" Target="http://voicethread.com/#q+1st+grade.b220138.i1149087" TargetMode="External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delicious.com/" TargetMode="External"/><Relationship Id="rId3" Type="http://schemas.openxmlformats.org/officeDocument/2006/relationships/hyperlink" Target="http://livebinders.com/" TargetMode="External"/><Relationship Id="rId4" Type="http://schemas.openxmlformats.org/officeDocument/2006/relationships/hyperlink" Target="http://www.animoto.com/" TargetMode="Externa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salem.k12.va.us/west/podcasts/0708/gingerbread.mp3" TargetMode="External"/><Relationship Id="rId3" Type="http://schemas.openxmlformats.org/officeDocument/2006/relationships/hyperlink" Target="http://millard.esu3.org/willow/radio/shows/Willowcast32.html" TargetMode="Externa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www.cozi.com/" TargetMode="External"/><Relationship Id="rId3" Type="http://schemas.openxmlformats.org/officeDocument/2006/relationships/hyperlink" Target="http://www.rememberthemilk.com/" TargetMode="External"/><Relationship Id="rId4" Type="http://schemas.openxmlformats.org/officeDocument/2006/relationships/hyperlink" Target="http://tadalist.com/" TargetMode="External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www.skype.com/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www.netsmartzkids.org/indexFL.htm" TargetMode="External"/><Relationship Id="rId3" Type="http://schemas.openxmlformats.org/officeDocument/2006/relationships/hyperlink" Target="http://www.safekids.com/" TargetMode="External"/><Relationship Id="rId4" Type="http://schemas.openxmlformats.org/officeDocument/2006/relationships/hyperlink" Target="http://www.wiredkids.org/" TargetMode="External"/><Relationship Id="rId5" Type="http://schemas.openxmlformats.org/officeDocument/2006/relationships/hyperlink" Target="http://kids.getnetwise.org/safetyguide/" TargetMode="External"/><Relationship Id="rId6" Type="http://schemas.openxmlformats.org/officeDocument/2006/relationships/hyperlink" Target="http://www.cyberangels.org/kids/index.html" TargetMode="External"/><Relationship Id="rId7" Type="http://schemas.openxmlformats.org/officeDocument/2006/relationships/hyperlink" Target="http://www.google.com/Top/Computers/Internet/Child_Safety/" TargetMode="External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396720" y="268200"/>
            <a:ext cx="8461440" cy="1951200"/>
          </a:xfrm>
          <a:prstGeom prst="rect">
            <a:avLst/>
          </a:prstGeom>
          <a:ln w="0">
            <a:noFill/>
          </a:ln>
        </p:spPr>
      </p:pic>
      <p:pic>
        <p:nvPicPr>
          <p:cNvPr id="320" name="Content Placeholder 3" descr="techworker.jpg"/>
          <p:cNvPicPr/>
          <p:nvPr/>
        </p:nvPicPr>
        <p:blipFill>
          <a:blip r:embed="rId2"/>
          <a:stretch/>
        </p:blipFill>
        <p:spPr>
          <a:xfrm>
            <a:off x="304920" y="2819520"/>
            <a:ext cx="4647960" cy="3605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factory.jpg"/>
          <p:cNvPicPr/>
          <p:nvPr/>
        </p:nvPicPr>
        <p:blipFill>
          <a:blip r:embed="rId3"/>
          <a:stretch/>
        </p:blipFill>
        <p:spPr>
          <a:xfrm>
            <a:off x="5715000" y="2514600"/>
            <a:ext cx="2987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rcRect l="7814" t="20832" r="10158" b="8460"/>
          <a:stretch/>
        </p:blipFill>
        <p:spPr>
          <a:xfrm>
            <a:off x="228600" y="1219320"/>
            <a:ext cx="8153280" cy="5270400"/>
          </a:xfrm>
          <a:prstGeom prst="rect">
            <a:avLst/>
          </a:prstGeom>
          <a:ln w="0">
            <a:noFill/>
          </a:ln>
        </p:spPr>
      </p:pic>
      <p:sp>
        <p:nvSpPr>
          <p:cNvPr id="354" name="Content Placeholder 2"/>
          <p:cNvSpPr/>
          <p:nvPr/>
        </p:nvSpPr>
        <p:spPr>
          <a:xfrm>
            <a:off x="5867280" y="5638680"/>
            <a:ext cx="4114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Made with Wordle http://wordl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Lucida Grande"/>
                <a:ea typeface="Lucida Grande"/>
              </a:rPr>
              <a:t>A social networking site is an online location where a user can create a profile, build a personal network, and connect to other users.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Facebook, MySpace, Bebo, etc. 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Franklin Gothic Book"/>
              </a:rPr>
              <a:t>No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Franklin Gothic Book"/>
              </a:rPr>
              <a:t>Yes</a:t>
            </a: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rcRect l="22220" t="24592" r="20957" b="13760"/>
          <a:stretch/>
        </p:blipFill>
        <p:spPr>
          <a:xfrm>
            <a:off x="2209680" y="1447920"/>
            <a:ext cx="6324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937720" cy="1487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26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497d"/>
                </a:solidFill>
                <a:latin typeface="Franklin Gothic Book"/>
              </a:rPr>
              <a:t>Blog</a:t>
            </a:r>
            <a:endParaRPr b="0" lang="en-US" sz="29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(n.) Short for </a:t>
            </a:r>
            <a:r>
              <a:rPr b="0" i="1" lang="en-US" sz="3200" spc="-1" strike="noStrike">
                <a:solidFill>
                  <a:srgbClr val="1f497d"/>
                </a:solidFill>
                <a:latin typeface="Franklin Gothic Book"/>
              </a:rPr>
              <a:t>Web log</a:t>
            </a: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, a blog is a Web page that serves as a publicly accessible personal journal for an individual.  Typically updated daily, blogs often reflect the personality of the author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(v.) To author a Web log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Other forms: Blogger (a person who blogs)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 algn="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- Webopedia.com</a:t>
            </a: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04920" y="1981080"/>
            <a:ext cx="8686800" cy="2286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937720" cy="1487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Blogs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Mrs. Cassidy’s Classroom Blog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Mrs. Goerend’s Blog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The KinderKids Blog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65" name="Picture 5" descr="blog_logo1.jpg"/>
          <p:cNvPicPr/>
          <p:nvPr/>
        </p:nvPicPr>
        <p:blipFill>
          <a:blip r:embed="rId5"/>
          <a:stretch/>
        </p:blipFill>
        <p:spPr>
          <a:xfrm>
            <a:off x="5068800" y="3352680"/>
            <a:ext cx="3618000" cy="24084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6324480" y="5943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hoto by Edgar (Cross) Khachatr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Blogger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Part of Google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Edublog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Wordpres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Clustrmap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69" name="Picture 3" descr="blogger.png"/>
          <p:cNvPicPr/>
          <p:nvPr/>
        </p:nvPicPr>
        <p:blipFill>
          <a:blip r:embed="rId3"/>
          <a:stretch/>
        </p:blipFill>
        <p:spPr>
          <a:xfrm>
            <a:off x="5410080" y="1371600"/>
            <a:ext cx="3022560" cy="2266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images.jpg"/>
          <p:cNvPicPr/>
          <p:nvPr/>
        </p:nvPicPr>
        <p:blipFill>
          <a:blip r:embed="rId4"/>
          <a:stretch/>
        </p:blipFill>
        <p:spPr>
          <a:xfrm>
            <a:off x="4033800" y="2881440"/>
            <a:ext cx="1736640" cy="176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wordpress-plugins.jpg"/>
          <p:cNvPicPr/>
          <p:nvPr/>
        </p:nvPicPr>
        <p:blipFill>
          <a:blip r:embed="rId5"/>
          <a:stretch/>
        </p:blipFill>
        <p:spPr>
          <a:xfrm>
            <a:off x="5562720" y="3505320"/>
            <a:ext cx="30668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937720" cy="14875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ocial Media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Flickr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SchoolTube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YouTube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5"/>
              </a:rPr>
              <a:t>TeacherTube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6"/>
              </a:rPr>
              <a:t>Voicethread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74" name="Picture 3" descr="2945559128_53078d246b.jpg"/>
          <p:cNvPicPr/>
          <p:nvPr/>
        </p:nvPicPr>
        <p:blipFill>
          <a:blip r:embed="rId7"/>
          <a:stretch/>
        </p:blipFill>
        <p:spPr>
          <a:xfrm>
            <a:off x="4343400" y="2590920"/>
            <a:ext cx="4389480" cy="36669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6324480" y="63244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raphic by Matt H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937720" cy="1487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Delicious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PJApple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Livebinder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Animoto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Photostory 3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ree download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78" name="Picture 3" descr="9909_04_1898---Old-tools-and-spanners_web.jpg"/>
          <p:cNvPicPr/>
          <p:nvPr/>
        </p:nvPicPr>
        <p:blipFill>
          <a:blip r:embed="rId5"/>
          <a:stretch/>
        </p:blipFill>
        <p:spPr>
          <a:xfrm>
            <a:off x="5181480" y="1600200"/>
            <a:ext cx="27054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Podcast - (iPOD broadCAST) An audio broadcast that has been converted to an audio file format for playback in a digital music player. (Although many podcasts are played on a regular computer.)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Franklin Gothic Book"/>
              </a:rPr>
              <a:t>- pcmag.com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f6d"/>
              </a:solidFill>
              <a:latin typeface="Franklin Gothic Book"/>
            </a:endParaRPr>
          </a:p>
        </p:txBody>
      </p:sp>
      <p:pic>
        <p:nvPicPr>
          <p:cNvPr id="324" name="Picture 3" descr="2870711774_f77ef43fee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"/>
          <p:cNvSpPr/>
          <p:nvPr/>
        </p:nvSpPr>
        <p:spPr>
          <a:xfrm>
            <a:off x="914400" y="3808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tique Olive"/>
              </a:rPr>
              <a:t>Preparing Students for the 2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ntique Olive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Antique Olive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88x31.png"/>
          <p:cNvPicPr/>
          <p:nvPr/>
        </p:nvPicPr>
        <p:blipFill>
          <a:blip r:embed="rId2"/>
          <a:stretch/>
        </p:blipFill>
        <p:spPr>
          <a:xfrm>
            <a:off x="7391520" y="6172200"/>
            <a:ext cx="11174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The Gingerbread Ma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Radio WillowWeb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83" name="Picture 3" descr="2265202595_b41eda824d.jpg"/>
          <p:cNvPicPr/>
          <p:nvPr/>
        </p:nvPicPr>
        <p:blipFill>
          <a:blip r:embed="rId4"/>
          <a:stretch/>
        </p:blipFill>
        <p:spPr>
          <a:xfrm>
            <a:off x="4616280" y="3200400"/>
            <a:ext cx="3713400" cy="31114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6629400" y="6400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hoto by Zo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RSS Feed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Alert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Organization Tool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Cozi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Remember the Milk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Ta-Da Lists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Skype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Bring the world into your classroom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89" name="Picture 3" descr="skype by Superkimbo in BKK.jpg"/>
          <p:cNvPicPr/>
          <p:nvPr/>
        </p:nvPicPr>
        <p:blipFill>
          <a:blip r:embed="rId3"/>
          <a:stretch/>
        </p:blipFill>
        <p:spPr>
          <a:xfrm>
            <a:off x="2286000" y="28195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tudents should not be online without supervision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each students to </a:t>
            </a:r>
            <a:r>
              <a:rPr b="1" lang="en-US" sz="3200" spc="-1" strike="noStrike">
                <a:solidFill>
                  <a:srgbClr val="1f497d"/>
                </a:solidFill>
                <a:latin typeface="Franklin Gothic Book"/>
              </a:rPr>
              <a:t>never</a:t>
            </a: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 give out personal information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each students to tell a parent or other trusted adult if they encounter something online that makes them uncomfortable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Begin to teach students how the Internet work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Parents must be educated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Parents should set clear use of Internet usage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074240" indent="-214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Where can the child access the Internet?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Computers should be in a shared family space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Children should never be online without supervision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Children should not give out personal information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Parents should help children create usernames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074240" indent="-214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Franklin Gothic Book"/>
              </a:rPr>
              <a:t>Username should not identify age or gender</a:t>
            </a: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698400" indent="-26856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NetSmartzKid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SafeKid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WiredKid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5"/>
              </a:rPr>
              <a:t>GetNetWise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6"/>
              </a:rPr>
              <a:t>CyberAngel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7"/>
              </a:rPr>
              <a:t>Google Resource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15228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American Association of School Librarians. (2007). Standards for the 21</a:t>
            </a:r>
            <a:r>
              <a:rPr b="0" lang="en-US" sz="1800" spc="-1" strike="noStrike" baseline="30000">
                <a:solidFill>
                  <a:srgbClr val="1f497d"/>
                </a:solidFill>
                <a:latin typeface="Franklin Gothic Book"/>
              </a:rPr>
              <a:t>st</a:t>
            </a: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 Century Learner. http://www.ala.org/ala/mgrps/divs/aasl/guidelinesandstandards/learningstandards/AASL_Learning_Standards_2007.pdf.</a:t>
            </a: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International Society for Technology in Education. (2007). National Educational Technology Standards (NETS•S)and Performance Indicators for Students. http://www.iste.org/Content/NavigationMenu/NETS/ForStudents/2007Standards/NETS_for_Students_2007_Standards.pdf</a:t>
            </a: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Kaiser Family Foundation. (2010). Daily media use among children and teens up dramatically from five years ago. http://www.kff.org/entmedia/entmedia012010nr.cfm</a:t>
            </a: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Kaiser Family Foundation. (2003). Zero to six: Electronic media in the lives of infants, toddlers and preschoolers. http://www.kff.org/entmedia/upload/Zero-to-Six-Electronic-Media-in-the-Lives-of-Infants-Toddlers-and-Preschoolers-PDF.pdf</a:t>
            </a: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Partnership for 21</a:t>
            </a:r>
            <a:r>
              <a:rPr b="0" lang="en-US" sz="1800" spc="-1" strike="noStrike" baseline="30000">
                <a:solidFill>
                  <a:srgbClr val="1f497d"/>
                </a:solidFill>
                <a:latin typeface="Franklin Gothic Book"/>
              </a:rPr>
              <a:t>st</a:t>
            </a: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 Century Skills. (2009). Framework for 21</a:t>
            </a:r>
            <a:r>
              <a:rPr b="0" lang="en-US" sz="1800" spc="-1" strike="noStrike" baseline="30000">
                <a:solidFill>
                  <a:srgbClr val="1f497d"/>
                </a:solidFill>
                <a:latin typeface="Franklin Gothic Book"/>
              </a:rPr>
              <a:t>st</a:t>
            </a:r>
            <a:r>
              <a:rPr b="0" lang="en-US" sz="1800" spc="-1" strike="noStrike">
                <a:solidFill>
                  <a:srgbClr val="1f497d"/>
                </a:solidFill>
                <a:latin typeface="Franklin Gothic Book"/>
              </a:rPr>
              <a:t> Century Learning. http://www.21stcenturyskills.org/documents/P21_Framework.pdf</a:t>
            </a:r>
            <a:endParaRPr b="0" lang="en-US" sz="18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Dr. Perri Applegate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Director of Library Media/ITV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Oklahoma State Department of Education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Perri_Applegate@sde.state.ok.us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405-521-2956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Manuel Gonzales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Coordinator Instructional Technology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Oklahoma State Department of Education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All resources, including this PowerPoint are available at http://digitallifeguard.wikispaces.com/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s is a wiki.  It is intended to be a collaborative project to increase the use of Web 2.0 tools in classrooms.  Feel free to use any resources you find here, but also please share great resources you come across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28" name="Content Placeholder 3" descr="234877734_e4ee5c1279.jpg"/>
          <p:cNvPicPr/>
          <p:nvPr/>
        </p:nvPicPr>
        <p:blipFill>
          <a:blip r:embed="rId2"/>
          <a:stretch/>
        </p:blipFill>
        <p:spPr>
          <a:xfrm>
            <a:off x="914400" y="1554120"/>
            <a:ext cx="7315200" cy="452592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2286000" y="609588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- Image by POPOE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04920" y="137124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It’s the world in which they live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32" name="Picture 7" descr="3279525046_658ebdd392.jpg"/>
          <p:cNvPicPr/>
          <p:nvPr/>
        </p:nvPicPr>
        <p:blipFill>
          <a:blip r:embed="rId2"/>
          <a:stretch/>
        </p:blipFill>
        <p:spPr>
          <a:xfrm>
            <a:off x="838080" y="2209680"/>
            <a:ext cx="2646360" cy="39625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6"/>
          <p:cNvSpPr/>
          <p:nvPr/>
        </p:nvSpPr>
        <p:spPr>
          <a:xfrm>
            <a:off x="3657600" y="2514600"/>
            <a:ext cx="480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003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study on computer use of children found usag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1% - ages 0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70% - ages 4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4479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A 2009, Nielson study found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Kids aged 2-5 average 32+ hours/week of TV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Kids 6-11 about 28 hours per week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36" name="Picture 3" descr="1325772268_8f885c2c45.jpg"/>
          <p:cNvPicPr/>
          <p:nvPr/>
        </p:nvPicPr>
        <p:blipFill>
          <a:blip r:embed="rId2"/>
          <a:srcRect l="32003" t="6803" r="15199" b="17998"/>
          <a:stretch/>
        </p:blipFill>
        <p:spPr>
          <a:xfrm>
            <a:off x="5410080" y="1523880"/>
            <a:ext cx="3495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38" name="Content Placeholder 3" descr="mediau7.jpg"/>
          <p:cNvPicPr/>
          <p:nvPr/>
        </p:nvPicPr>
        <p:blipFill>
          <a:blip r:embed="rId2"/>
          <a:stretch/>
        </p:blipFill>
        <p:spPr>
          <a:xfrm>
            <a:off x="914400" y="1554120"/>
            <a:ext cx="7315200" cy="4525920"/>
          </a:xfrm>
          <a:prstGeom prst="rect">
            <a:avLst/>
          </a:prstGeom>
          <a:ln w="0">
            <a:noFill/>
          </a:ln>
        </p:spPr>
      </p:pic>
      <p:sp>
        <p:nvSpPr>
          <p:cNvPr id="339" name="TextBox 4"/>
          <p:cNvSpPr/>
          <p:nvPr/>
        </p:nvSpPr>
        <p:spPr>
          <a:xfrm>
            <a:off x="4343400" y="617220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Kaiser Generation M2- Kids/Youth/Media Survey (January 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o prepare them for the world in which they will live as adult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42" name="Picture 3" descr="rainbow_web_0710.jpg"/>
          <p:cNvPicPr/>
          <p:nvPr/>
        </p:nvPicPr>
        <p:blipFill>
          <a:blip r:embed="rId2"/>
          <a:stretch/>
        </p:blipFill>
        <p:spPr>
          <a:xfrm>
            <a:off x="2133720" y="3581280"/>
            <a:ext cx="4733640" cy="2934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standards-cover.png"/>
          <p:cNvPicPr/>
          <p:nvPr/>
        </p:nvPicPr>
        <p:blipFill>
          <a:blip r:embed="rId3"/>
          <a:stretch/>
        </p:blipFill>
        <p:spPr>
          <a:xfrm>
            <a:off x="6553080" y="2647800"/>
            <a:ext cx="2152800" cy="2695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NESBO2.jpg"/>
          <p:cNvPicPr/>
          <p:nvPr/>
        </p:nvPicPr>
        <p:blipFill>
          <a:blip r:embed="rId4"/>
          <a:stretch/>
        </p:blipFill>
        <p:spPr>
          <a:xfrm>
            <a:off x="457200" y="2590920"/>
            <a:ext cx="2057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2"/>
          <a:srcRect l="8884" t="19483" r="10316" b="9459"/>
          <a:stretch/>
        </p:blipFill>
        <p:spPr>
          <a:xfrm>
            <a:off x="838080" y="1219320"/>
            <a:ext cx="7391520" cy="4875120"/>
          </a:xfrm>
          <a:prstGeom prst="rect">
            <a:avLst/>
          </a:prstGeom>
          <a:ln w="0">
            <a:noFill/>
          </a:ln>
        </p:spPr>
      </p:pic>
      <p:sp>
        <p:nvSpPr>
          <p:cNvPr id="347" name="Content Placeholder 2"/>
          <p:cNvSpPr/>
          <p:nvPr/>
        </p:nvSpPr>
        <p:spPr>
          <a:xfrm>
            <a:off x="5562720" y="5486400"/>
            <a:ext cx="4114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Made with Wordle http://wordl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Critical thinking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Problem solving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Self-directed learning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Collaboration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Creating information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Ethical information usage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Flexibility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Responsibility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1:50:11Z</dcterms:created>
  <dc:creator>Perri.Applegate</dc:creator>
  <dc:description/>
  <dc:language>en-US</dc:language>
  <cp:lastModifiedBy>Perri.Applegate</cp:lastModifiedBy>
  <dcterms:modified xsi:type="dcterms:W3CDTF">2010-02-24T15:55:07Z</dcterms:modified>
  <cp:revision>50</cp:revision>
  <dc:subject/>
  <dc:title>Slide 1</dc:title>
</cp:coreProperties>
</file>